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5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6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9.jpeg" ContentType="image/jpeg"/>
  <Override PartName="/ppt/media/image51.png" ContentType="image/png"/>
  <Override PartName="/ppt/media/image56.jpeg" ContentType="image/jpeg"/>
  <Override PartName="/ppt/media/image44.png" ContentType="image/png"/>
  <Override PartName="/ppt/media/image58.jpeg" ContentType="image/jpeg"/>
  <Override PartName="/ppt/media/image59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29.jpeg" ContentType="image/jpeg"/>
  <Override PartName="/ppt/media/image52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07F-1227-4338-B5D5-4EE92ABE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D8B-B6D1-4E31-B28F-00465CA1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FC5-A5B6-4867-9374-691F77FE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B00-B9F0-4C24-8A9E-998FA833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F25-AA88-41CC-80FE-512419A4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989-4189-4A93-B937-34BDB166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E44-3FE3-43BB-9E2D-C3F5CB8F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A7F-2C55-42D9-B4E7-0D1D8395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A60-0A26-4D7E-AF84-A93EF43A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291-EF9D-483C-A115-51BC36B0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4A2-2967-4172-AB8D-6F2CC40E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347-44AC-427C-994A-37D4CAE8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6878-56F7-45B5-93E0-C8F930000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16, 17 &amp;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http://rds.yahoo.com/_ylt=A9iby6Gg1A9GPkwBLQWjzbkF;_ylu=X3oDMTA4NDgyNWN0BHNlYwNwcm9m/SIG=11qsh3irq/EXP=1175528992/**http%3A//www.epa.gov/maia/images/dna.jpg"/>
          <p:cNvPicPr/>
          <p:nvPr/>
        </p:nvPicPr>
        <p:blipFill>
          <a:blip r:embed="rId1"/>
          <a:stretch/>
        </p:blipFill>
        <p:spPr>
          <a:xfrm>
            <a:off x="1828800" y="160020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Mixed with enzymes that only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estro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ransformatio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p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http://rds.yahoo.com/_ylt=A9iby4T44Q9GHiIBkRKjzbkF;_ylu=X3oDMTA4NDgyNWN0BHNlYwNwcm9m/SIG=139o4gpsc/EXP=1175532408/**http%3A//biology.kenyon.edu/courses/biol114/KH_lecture_images/How_DNA_works/FG11_02.JPG"/>
          <p:cNvPicPr/>
          <p:nvPr/>
        </p:nvPicPr>
        <p:blipFill>
          <a:blip r:embed="rId1"/>
          <a:srcRect l="4166" t="33338" r="22503" b="0"/>
          <a:stretch/>
        </p:blipFill>
        <p:spPr>
          <a:xfrm>
            <a:off x="1143000" y="2971800"/>
            <a:ext cx="6705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molecule that stores information and transfers it to new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rds.yahoo.com/_ylt=A9iby4UV7Q9GEIAB4SujzbkF;_ylu=X3oDMTA4NDgyNWN0BHNlYwNwcm9m/SIG=12258c3k4/EXP=1175535253/**http%3A//www.wsu.edu/~nneka_njoku/conclusion.gif"/>
          <p:cNvPicPr/>
          <p:nvPr/>
        </p:nvPicPr>
        <p:blipFill>
          <a:blip r:embed="rId1"/>
          <a:stretch/>
        </p:blipFill>
        <p:spPr>
          <a:xfrm>
            <a:off x="4191120" y="3581280"/>
            <a:ext cx="3824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ersh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amp; Chase,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95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Studied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ir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nfect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acter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acterioph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http://rds.yahoo.com/_ylt=A9iby56V5w9G2jsBJhijzbkF;_ylu=X3oDMTA4NDgyNWN0BHNlYwNwcm9m/SIG=13ht81fif/EXP=1175533845/**http%3A//www.savetheantibiotic.com/public_html/0_Educators/microbe%2520images/bacteriophage.jpg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4267440"/>
          </a:xfrm>
          <a:prstGeom prst="rect">
            <a:avLst/>
          </a:prstGeom>
          <a:ln w="0">
            <a:noFill/>
          </a:ln>
        </p:spPr>
      </p:pic>
      <p:sp>
        <p:nvSpPr>
          <p:cNvPr id="76" name="Line 10"/>
          <p:cNvSpPr/>
          <p:nvPr/>
        </p:nvSpPr>
        <p:spPr>
          <a:xfrm flipV="1">
            <a:off x="3962520" y="2971440"/>
            <a:ext cx="1600200" cy="2286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3962520" y="3962520"/>
            <a:ext cx="2590560" cy="144756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Is it th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th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f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bacter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Protein =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NA =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http://rds.yahoo.com/_ylt=A9ibyiFa5w9GsU0AnRCjzbkF;_ylu=X3oDMTA4NDgyNWN0BHNlYwNwcm9m/SIG=142hjolgn/EXP=1175533786/**http%3A//www-ocean.tamu.edu/education/oceanworld-old/resources/oceanography-book/Images/BacteriophageCartoon.jpg"/>
          <p:cNvPicPr/>
          <p:nvPr/>
        </p:nvPicPr>
        <p:blipFill>
          <a:blip r:embed="rId1"/>
          <a:srcRect l="16736" t="0" r="9388" b="38470"/>
          <a:stretch/>
        </p:blipFill>
        <p:spPr>
          <a:xfrm>
            <a:off x="5105520" y="2133720"/>
            <a:ext cx="403848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Experiment #1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adioactive Sulf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ee if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ered the bact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dioactivity i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acter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http://rds.yahoo.com/_ylt=A9iby4Nv6g9Gi2sBuBWjzbkF;_ylu=X3oDMTA4NDgyNWN0BHNlYwNwcm9m/SIG=1201i07fd/EXP=1175534575/**http%3A//www.mun.ca/biology/scarr/Fg10_06b.gif"/>
          <p:cNvPicPr/>
          <p:nvPr/>
        </p:nvPicPr>
        <p:blipFill>
          <a:blip r:embed="rId1"/>
          <a:srcRect l="50003" t="0" r="0" b="0"/>
          <a:stretch/>
        </p:blipFill>
        <p:spPr>
          <a:xfrm>
            <a:off x="4114800" y="1447920"/>
            <a:ext cx="4724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Experiment #2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adioactive Phosphor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e if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ered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activity wa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acte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http://rds.yahoo.com/_ylt=A9iby4Nv6g9Gi2sBuBWjzbkF;_ylu=X3oDMTA4NDgyNWN0BHNlYwNwcm9m/SIG=1201i07fd/EXP=1175534575/**http%3A//www.mun.ca/biology/scarr/Fg10_06b.gif"/>
          <p:cNvPicPr/>
          <p:nvPr/>
        </p:nvPicPr>
        <p:blipFill>
          <a:blip r:embed="rId1"/>
          <a:srcRect l="0" t="0" r="48573" b="0"/>
          <a:stretch/>
        </p:blipFill>
        <p:spPr>
          <a:xfrm>
            <a:off x="4038480" y="1295280"/>
            <a:ext cx="4800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 Conclus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clu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genetic material of th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ir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t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de it apparent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control molecule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ganis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http://rds.yahoo.com/_ylt=A9iby4UV7Q9GEIAB4SujzbkF;_ylu=X3oDMTA4NDgyNWN0BHNlYwNwcm9m/SIG=12258c3k4/EXP=1175535253/**http%3A//www.wsu.edu/~nneka_njoku/conclusion.gif"/>
          <p:cNvPicPr/>
          <p:nvPr/>
        </p:nvPicPr>
        <p:blipFill>
          <a:blip r:embed="rId1"/>
          <a:stretch/>
        </p:blipFill>
        <p:spPr>
          <a:xfrm>
            <a:off x="3733920" y="5105520"/>
            <a:ext cx="2063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0’s – 1950’s: Scientists knew DNA was made of nucleot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didn’t know how complex the DNA molecule really wa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http://rds.yahoo.com/_ylt=A9gnMifZHxFGf2sB3jGjzbkF;_ylu=X3oDMTA4NDgyNWN0BHNlYwNwcm9m/SIG=11spetgrh/EXP=1175613785/**http%3A//www.hollywood-north.net/wiley.jpg"/>
          <p:cNvPicPr/>
          <p:nvPr/>
        </p:nvPicPr>
        <p:blipFill>
          <a:blip r:embed="rId1"/>
          <a:srcRect l="0" t="0" r="0" b="49337"/>
          <a:stretch/>
        </p:blipFill>
        <p:spPr>
          <a:xfrm>
            <a:off x="6324480" y="4343400"/>
            <a:ext cx="2286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ur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7" descr="http://rds.yahoo.com/_ylt=A9gnMiY8IhFG3wsA4XyjzbkF;_ylu=X3oDMTA4NDgyNWN0BHNlYwNwcm9m/SIG=125on8j5h/EXP=1175614396/**http%3A//www.bio.miami.edu/dana/250/nucleotides.jpg"/>
          <p:cNvPicPr/>
          <p:nvPr/>
        </p:nvPicPr>
        <p:blipFill>
          <a:blip r:embed="rId1"/>
          <a:srcRect l="0" t="5807" r="66294" b="55766"/>
          <a:stretch/>
        </p:blipFill>
        <p:spPr>
          <a:xfrm>
            <a:off x="3809880" y="2590920"/>
            <a:ext cx="502920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8"/>
          <p:cNvSpPr/>
          <p:nvPr/>
        </p:nvSpPr>
        <p:spPr>
          <a:xfrm>
            <a:off x="3809880" y="2590920"/>
            <a:ext cx="32004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7620120" y="4648320"/>
            <a:ext cx="121896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Gua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http://rds.yahoo.com/_ylt=A9gnMiY8IhFG3wsA4XyjzbkF;_ylu=X3oDMTA4NDgyNWN0BHNlYwNwcm9m/SIG=125on8j5h/EXP=1175614396/**http%3A//www.bio.miami.edu/dana/250/nucleotides.jpg"/>
          <p:cNvPicPr/>
          <p:nvPr/>
        </p:nvPicPr>
        <p:blipFill>
          <a:blip r:embed="rId1"/>
          <a:srcRect l="49574" t="-874" r="12756" b="57438"/>
          <a:stretch/>
        </p:blipFill>
        <p:spPr>
          <a:xfrm>
            <a:off x="3657600" y="2666880"/>
            <a:ext cx="5181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00’s: Mendel figured out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wa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as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wn throug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en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00’s: People wanted to know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doing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imid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ytos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http://rds.yahoo.com/_ylt=A9gnMiY8IhFG3wsA4XyjzbkF;_ylu=X3oDMTA4NDgyNWN0BHNlYwNwcm9m/SIG=125on8j5h/EXP=1175614396/**http%3A//www.bio.miami.edu/dana/250/nucleotides.jpg"/>
          <p:cNvPicPr/>
          <p:nvPr/>
        </p:nvPicPr>
        <p:blipFill>
          <a:blip r:embed="rId1"/>
          <a:srcRect l="2480" t="56392" r="69268" b="6096"/>
          <a:stretch/>
        </p:blipFill>
        <p:spPr>
          <a:xfrm>
            <a:off x="3809880" y="2438280"/>
            <a:ext cx="5029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imid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hy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http://rds.yahoo.com/_ylt=A9gnMiY8IhFG3wsA4XyjzbkF;_ylu=X3oDMTA4NDgyNWN0BHNlYwNwcm9m/SIG=125on8j5h/EXP=1175614396/**http%3A//www.bio.miami.edu/dana/250/nucleotides.jpg"/>
          <p:cNvPicPr/>
          <p:nvPr/>
        </p:nvPicPr>
        <p:blipFill>
          <a:blip r:embed="rId1"/>
          <a:srcRect l="51287" t="56392" r="19178" b="6096"/>
          <a:stretch/>
        </p:blipFill>
        <p:spPr>
          <a:xfrm>
            <a:off x="3962520" y="2209680"/>
            <a:ext cx="48765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ing nucleot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hosphate (5’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1 +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ug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3’)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http://rds.yahoo.com/_ylt=A9gnMiQpJRFGKOgAmBGjzbkF;_ylu=X3oDMTA4NDgyNWN0BHNlYwNwcm9m/SIG=12gsockfo/EXP=1175615145/**http%3A//images.clinicaltools.com/images/gene/nucleotides2.jpg"/>
          <p:cNvPicPr/>
          <p:nvPr/>
        </p:nvPicPr>
        <p:blipFill>
          <a:blip r:embed="rId1"/>
          <a:srcRect l="6311" t="0" r="7365" b="61654"/>
          <a:stretch/>
        </p:blipFill>
        <p:spPr>
          <a:xfrm>
            <a:off x="685800" y="3809880"/>
            <a:ext cx="807732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Line 7"/>
          <p:cNvSpPr/>
          <p:nvPr/>
        </p:nvSpPr>
        <p:spPr>
          <a:xfrm>
            <a:off x="3200400" y="3124080"/>
            <a:ext cx="1295280" cy="91440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4876920" y="3124080"/>
            <a:ext cx="304560" cy="1524240"/>
          </a:xfrm>
          <a:prstGeom prst="line">
            <a:avLst/>
          </a:prstGeom>
          <a:ln w="6984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3246480" y="3660840"/>
            <a:ext cx="1689120" cy="326376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11"/>
          <p:cNvSpPr/>
          <p:nvPr/>
        </p:nvSpPr>
        <p:spPr>
          <a:xfrm>
            <a:off x="4524480" y="3676680"/>
            <a:ext cx="1787400" cy="3316320"/>
          </a:xfrm>
          <a:prstGeom prst="pie">
            <a:avLst/>
          </a:pr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win Chargaff, 19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http://rds.yahoo.com/_ylt=A9gnMiekLBFGziwAy4OjzbkF;_ylu=X3oDMTA4NDgyNWN0BHNlYwNwcm9m/SIG=120g13lf5/EXP=1175617060/**http%3A//www.cns.pdx.edu/~newmanl/Chargaff.GIF"/>
          <p:cNvPicPr/>
          <p:nvPr/>
        </p:nvPicPr>
        <p:blipFill>
          <a:blip r:embed="rId1"/>
          <a:srcRect l="0" t="19220" r="0" b="28905"/>
          <a:stretch/>
        </p:blipFill>
        <p:spPr>
          <a:xfrm>
            <a:off x="457200" y="2514600"/>
            <a:ext cx="8229600" cy="41911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2514600" y="2666880"/>
            <a:ext cx="464832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at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Franci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r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195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Used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Franklin’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-ray pattern to develop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NA stru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http://rds.yahoo.com/_ylt=A9gnMicaNxFGQTcAjQujzbkF;_ylu=X3oDMTA4NDgyNWN0BHNlYwNwcm9m/SIG=125prr2pf/EXP=1175619738/**http%3A//www.hallucinogens.com/lsd/watson-crick.jpg"/>
          <p:cNvPicPr/>
          <p:nvPr/>
        </p:nvPicPr>
        <p:blipFill>
          <a:blip r:embed="rId1"/>
          <a:stretch/>
        </p:blipFill>
        <p:spPr>
          <a:xfrm>
            <a:off x="4495680" y="2057400"/>
            <a:ext cx="42292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howed that DNA wa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 stra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rapped around each other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ouble hel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http://rds.yahoo.com/_ylt=A9gnMiRdOBFGWPgA6nujzbkF;_ylu=X3oDMTA4NDgyNWN0BHNlYwNwcm9m/SIG=12dtju8fp/EXP=1175620061/**http%3A//bh.knu.ac.kr/~sdsong/images/HB1-DNA%2520DHelix.gif"/>
          <p:cNvPicPr/>
          <p:nvPr/>
        </p:nvPicPr>
        <p:blipFill>
          <a:blip r:embed="rId1"/>
          <a:srcRect l="0" t="3882" r="63220" b="15414"/>
          <a:stretch/>
        </p:blipFill>
        <p:spPr>
          <a:xfrm>
            <a:off x="4876920" y="1447920"/>
            <a:ext cx="3908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5562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Base pa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Chargaff’s findings now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denine pairs with Thy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Guanine pairs with Cytosi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http://rds.yahoo.com/_ylt=A9gnMiZhORFGXx0A3XCjzbkF;_ylu=X3oDMTA4NDgyNWN0BHNlYwNwcm9m/SIG=12jeo96rq/EXP=1175620321/**http%3A//fig.cox.miami.edu/~cmallery/150/gene/c16x6base-pairs.jpg"/>
          <p:cNvPicPr/>
          <p:nvPr/>
        </p:nvPicPr>
        <p:blipFill>
          <a:blip r:embed="rId1"/>
          <a:stretch/>
        </p:blipFill>
        <p:spPr>
          <a:xfrm>
            <a:off x="5410080" y="1752480"/>
            <a:ext cx="3733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Base pa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or every C, there is a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or every A, there is a 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http://rds.yahoo.com/_ylt=A9gnMiDqORFGlJkARFSjzbkF;_ylu=X3oDMTA4NDgyNWN0BHNlYwNwcm9m/SIG=12mckcod9/EXP=1175620458/**http%3A//faculty.evansville.edu/be6/b1074/notes/DNA/dna_molecule.gif"/>
          <p:cNvPicPr/>
          <p:nvPr/>
        </p:nvPicPr>
        <p:blipFill>
          <a:blip r:embed="rId1"/>
          <a:stretch/>
        </p:blipFill>
        <p:spPr>
          <a:xfrm>
            <a:off x="3505320" y="304920"/>
            <a:ext cx="533700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 paralle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ds run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ite directio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http://rds.yahoo.com/_ylt=A9gnMiDqORFGlJkARFSjzbkF;_ylu=X3oDMTA4NDgyNWN0BHNlYwNwcm9m/SIG=12mckcod9/EXP=1175620458/**http%3A//faculty.evansville.edu/be6/b1074/notes/DNA/dna_molecule.gif"/>
          <p:cNvPicPr/>
          <p:nvPr/>
        </p:nvPicPr>
        <p:blipFill>
          <a:blip r:embed="rId1"/>
          <a:stretch/>
        </p:blipFill>
        <p:spPr>
          <a:xfrm>
            <a:off x="3505320" y="304920"/>
            <a:ext cx="533700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Figure 2-31. Synthesis of a polynucleotide, RNA or DNA, is a multistep process driven by ATP hydrolysis."/>
          <p:cNvPicPr/>
          <p:nvPr/>
        </p:nvPicPr>
        <p:blipFill>
          <a:blip r:embed="rId1"/>
          <a:srcRect l="46403" t="51857" r="18402" b="-1844"/>
          <a:stretch/>
        </p:blipFill>
        <p:spPr>
          <a:xfrm rot="1627800">
            <a:off x="4277880" y="673200"/>
            <a:ext cx="3832200" cy="5454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’ = end with exposed hydroxyl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’ = end with exposed phosphate gro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ederick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riffith, 19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types of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s pneumonia in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Smoo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n’t cause pneumonia in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Roug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http://rds.yahoo.com/_ylt=A9iby4dn2A9GmJQAc2.jzbkF;_ylu=X3oDMTA4NDgyNWN0BHNlYwNwcm9m/SIG=12np1hh3l/EXP=1175529959/**http%3A//www.uic.edu/classes/bios/bios100/summer2003/figure11_1ab.jpg"/>
          <p:cNvPicPr/>
          <p:nvPr/>
        </p:nvPicPr>
        <p:blipFill>
          <a:blip r:embed="rId1"/>
          <a:srcRect l="0" t="0" r="68430" b="50305"/>
          <a:stretch/>
        </p:blipFill>
        <p:spPr>
          <a:xfrm>
            <a:off x="1523880" y="4495680"/>
            <a:ext cx="236232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rds.yahoo.com/_ylt=A9iby6CN2A9G_V4BqBujzbkF;_ylu=X3oDMTA4NDgyNWN0BHNlYwNwcm9m/SIG=12nl854mi/EXP=1175529997/**http%3A//www.uic.edu/classes/bios/bios100/summer2003/figure11_1ac.jpg"/>
          <p:cNvPicPr/>
          <p:nvPr/>
        </p:nvPicPr>
        <p:blipFill>
          <a:blip r:embed="rId2"/>
          <a:srcRect l="0" t="18304" r="71261" b="29420"/>
          <a:stretch/>
        </p:blipFill>
        <p:spPr>
          <a:xfrm>
            <a:off x="5257800" y="434340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DNA 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’ = end with exposed hydroxyl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’ = end with exposed phosphate gro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http://rds.yahoo.com/_ylt=A0WTb_rkqwpNlC0A57OjzbkF/SIG=13i985s6h/EXP=1292631396/**http%3a/1.bp.blogspot.com/_-lAB5VhXvw8/RdHAsvSLJZI/AAAAAAAAAAM/4st0ktUNuxo/s320/Replication.gif"/>
          <p:cNvPicPr/>
          <p:nvPr/>
        </p:nvPicPr>
        <p:blipFill>
          <a:blip r:embed="rId1"/>
          <a:srcRect l="5552" t="0" r="50007" b="0"/>
          <a:stretch/>
        </p:blipFill>
        <p:spPr>
          <a:xfrm>
            <a:off x="5486400" y="228600"/>
            <a:ext cx="2514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pl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Process that form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 DNA stra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1 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elson &amp; Stahl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rov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w it happe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Semi-conserv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Each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ne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NA double helix has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one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ol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trand and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one ne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tr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371600" y="3886200"/>
            <a:ext cx="1523880" cy="914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2" descr="http://rds.yahoo.com/_ylt=A9gnMiK3jBJGm1UAqSCjzbkF;_ylu=X3oDMTA4NDgyNWN0BHNlYwNwcm9m/SIG=122ff5k6f/EXP=1175707191/**http%3A//www.utexas.edu/courses/zoo325/11-13.gif"/>
          <p:cNvPicPr/>
          <p:nvPr/>
        </p:nvPicPr>
        <p:blipFill>
          <a:blip r:embed="rId1"/>
          <a:srcRect l="43378" t="0" r="0" b="68063"/>
          <a:stretch/>
        </p:blipFill>
        <p:spPr>
          <a:xfrm>
            <a:off x="2133720" y="3505320"/>
            <a:ext cx="464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Prokaryo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ir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a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ingl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Single ORIGIN OF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4876920" y="3809880"/>
            <a:ext cx="3429000" cy="2743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5029200" y="3962520"/>
            <a:ext cx="3124080" cy="2438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5181480" y="5867280"/>
            <a:ext cx="152640" cy="76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4952880" y="5410080"/>
            <a:ext cx="152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4724280" y="5334120"/>
            <a:ext cx="838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29"/>
          <p:cNvSpPr/>
          <p:nvPr/>
        </p:nvSpPr>
        <p:spPr>
          <a:xfrm>
            <a:off x="4818240" y="5318280"/>
            <a:ext cx="444240" cy="72864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30"/>
          <p:cNvSpPr/>
          <p:nvPr/>
        </p:nvSpPr>
        <p:spPr>
          <a:xfrm>
            <a:off x="5075280" y="5337000"/>
            <a:ext cx="412560" cy="70992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2971800" y="5486400"/>
            <a:ext cx="1676520" cy="457200"/>
          </a:xfrm>
          <a:prstGeom prst="pi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NA (Straight l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tarts at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many origins of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9" descr="http://rds.yahoo.com/_ylt=A9gnMiELgRJGKP8AhW6jzbkF;_ylu=X3oDMTA4NDgyNWN0BHNlYwNwcm9m/SIG=12ob3p9ov/EXP=1175704203/**http%3A//www.dls.ym.edu.tw/ol_biology2/ultranet/ReplicationBubbles.gif"/>
          <p:cNvPicPr/>
          <p:nvPr/>
        </p:nvPicPr>
        <p:blipFill>
          <a:blip r:embed="rId1"/>
          <a:srcRect l="0" t="37483" r="0" b="34652"/>
          <a:stretch/>
        </p:blipFill>
        <p:spPr>
          <a:xfrm>
            <a:off x="380880" y="4724280"/>
            <a:ext cx="8382240" cy="1828800"/>
          </a:xfrm>
          <a:prstGeom prst="rect">
            <a:avLst/>
          </a:prstGeom>
          <a:ln w="0">
            <a:noFill/>
          </a:ln>
        </p:spPr>
      </p:pic>
      <p:sp>
        <p:nvSpPr>
          <p:cNvPr id="158" name="Line 31"/>
          <p:cNvSpPr/>
          <p:nvPr/>
        </p:nvSpPr>
        <p:spPr>
          <a:xfrm flipH="1" flipV="1">
            <a:off x="2133360" y="5715000"/>
            <a:ext cx="533160" cy="838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2"/>
          <p:cNvSpPr/>
          <p:nvPr/>
        </p:nvSpPr>
        <p:spPr>
          <a:xfrm>
            <a:off x="1905120" y="5562720"/>
            <a:ext cx="45720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3"/>
          <p:cNvSpPr/>
          <p:nvPr/>
        </p:nvSpPr>
        <p:spPr>
          <a:xfrm flipV="1">
            <a:off x="3429000" y="5562360"/>
            <a:ext cx="838080" cy="99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886200" y="5410080"/>
            <a:ext cx="60948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5"/>
          <p:cNvSpPr/>
          <p:nvPr/>
        </p:nvSpPr>
        <p:spPr>
          <a:xfrm>
            <a:off x="838080" y="4724280"/>
            <a:ext cx="381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6"/>
          <p:cNvSpPr/>
          <p:nvPr/>
        </p:nvSpPr>
        <p:spPr>
          <a:xfrm>
            <a:off x="2514600" y="4724280"/>
            <a:ext cx="1447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5943600" y="4724280"/>
            <a:ext cx="1219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8001000" y="4724280"/>
            <a:ext cx="4572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9"/>
          <p:cNvSpPr/>
          <p:nvPr/>
        </p:nvSpPr>
        <p:spPr>
          <a:xfrm flipV="1">
            <a:off x="4191120" y="5562360"/>
            <a:ext cx="3200400" cy="99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40"/>
          <p:cNvSpPr/>
          <p:nvPr/>
        </p:nvSpPr>
        <p:spPr>
          <a:xfrm>
            <a:off x="7086600" y="5410080"/>
            <a:ext cx="45720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2239920" y="6026040"/>
            <a:ext cx="204840" cy="20880"/>
          </a:xfrm>
          <a:prstGeom prst="pie">
            <a:avLst/>
          </a:prstGeom>
          <a:solidFill>
            <a:srgbClr val="ff0000"/>
          </a:solidFill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44"/>
          <p:cNvSpPr/>
          <p:nvPr/>
        </p:nvSpPr>
        <p:spPr>
          <a:xfrm flipH="1">
            <a:off x="2057400" y="4191120"/>
            <a:ext cx="990720" cy="1066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45"/>
          <p:cNvSpPr/>
          <p:nvPr/>
        </p:nvSpPr>
        <p:spPr>
          <a:xfrm>
            <a:off x="3505320" y="4191120"/>
            <a:ext cx="99036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46"/>
          <p:cNvSpPr/>
          <p:nvPr/>
        </p:nvSpPr>
        <p:spPr>
          <a:xfrm>
            <a:off x="3962520" y="4114800"/>
            <a:ext cx="350496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DNA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581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How it happ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ran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eparate: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eli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ach str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s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ui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0" descr="http://rds.yahoo.com/_ylt=A9gnMidBhRJGjmwBZw.jzbkF;_ylu=X3oDMTA4NDgyNWN0BHNlYwNwcm9m/SIG=153g4572p/EXP=1175705281/**http%3A//www.apsu.edu/~thompsonj/Anatomy%2520%26%2520Physiology/2010/2010%2520Exam%2520Reviews/Exam%25201%2520Review/DNA.replication.fig.3.29.jpg"/>
          <p:cNvPicPr/>
          <p:nvPr/>
        </p:nvPicPr>
        <p:blipFill>
          <a:blip r:embed="rId1"/>
          <a:srcRect l="19416" t="15372" r="27507" b="34306"/>
          <a:stretch/>
        </p:blipFill>
        <p:spPr>
          <a:xfrm>
            <a:off x="3886200" y="1143000"/>
            <a:ext cx="5029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arating the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trands must be held apart: </a:t>
            </a:r>
            <a:r>
              <a:rPr b="1" lang="en-US" sz="3200" spc="-1" strike="noStrike">
                <a:solidFill>
                  <a:srgbClr val="ff6699"/>
                </a:solidFill>
                <a:latin typeface="Times New Roman"/>
              </a:rPr>
              <a:t>DNA Binding Proteins (SSB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447920" y="3809880"/>
            <a:ext cx="601956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523880" y="5486400"/>
            <a:ext cx="601992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1905120" y="3505320"/>
            <a:ext cx="380880" cy="38088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3276720" y="3505320"/>
            <a:ext cx="380880" cy="38088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1"/>
          <p:cNvSpPr/>
          <p:nvPr/>
        </p:nvSpPr>
        <p:spPr>
          <a:xfrm>
            <a:off x="4648320" y="3505320"/>
            <a:ext cx="380880" cy="38088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6"/>
          <p:cNvSpPr/>
          <p:nvPr/>
        </p:nvSpPr>
        <p:spPr>
          <a:xfrm>
            <a:off x="6248520" y="3505320"/>
            <a:ext cx="380880" cy="38088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7"/>
          <p:cNvSpPr/>
          <p:nvPr/>
        </p:nvSpPr>
        <p:spPr>
          <a:xfrm>
            <a:off x="1905120" y="5638680"/>
            <a:ext cx="380880" cy="38124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8"/>
          <p:cNvSpPr/>
          <p:nvPr/>
        </p:nvSpPr>
        <p:spPr>
          <a:xfrm>
            <a:off x="3352680" y="5638680"/>
            <a:ext cx="381240" cy="38124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4800600" y="5715000"/>
            <a:ext cx="380880" cy="38088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20"/>
          <p:cNvSpPr/>
          <p:nvPr/>
        </p:nvSpPr>
        <p:spPr>
          <a:xfrm>
            <a:off x="6248520" y="5715000"/>
            <a:ext cx="380880" cy="380880"/>
          </a:xfrm>
          <a:prstGeom prst="ellipse">
            <a:avLst/>
          </a:prstGeom>
          <a:solidFill>
            <a:srgbClr val="ff66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se: Pri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otides must build on existing templa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im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reated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NA Prim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447920" y="3809880"/>
            <a:ext cx="601956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1523880" y="5486400"/>
            <a:ext cx="601992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1447920" y="4191120"/>
            <a:ext cx="8380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6705720" y="5105520"/>
            <a:ext cx="8380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ing St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d that will grow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continu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re is always a free OH to add o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ongates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’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3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NA Polymerase II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s nucleotides using energy from Dephosphorylation of nucleoside tri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                 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1447920" y="4267080"/>
            <a:ext cx="601956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1600200" y="6019920"/>
            <a:ext cx="601992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 flipV="1">
            <a:off x="1447920" y="4799880"/>
            <a:ext cx="8380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6705720" y="5486400"/>
            <a:ext cx="8380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2362320" y="4800600"/>
            <a:ext cx="5105160" cy="228600"/>
          </a:xfrm>
          <a:prstGeom prst="rect">
            <a:avLst/>
          </a:prstGeom>
          <a:solidFill>
            <a:srgbClr val="7030a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e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" descr="Figure 2-31. Synthesis of a polynucleotide, RNA or DNA, is a multistep process driven by ATP hydrolysis.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Experiment  #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mo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cteria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e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Mice didn’t d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http://rds.yahoo.com/_ylt=A9iby6CN2A9G_V4BqBujzbkF;_ylu=X3oDMTA4NDgyNWN0BHNlYwNwcm9m/SIG=12nl854mi/EXP=1175529997/**http%3A//www.uic.edu/classes/bios/bios100/summer2003/figure11_1ac.jpg"/>
          <p:cNvPicPr/>
          <p:nvPr/>
        </p:nvPicPr>
        <p:blipFill>
          <a:blip r:embed="rId1"/>
          <a:stretch/>
        </p:blipFill>
        <p:spPr>
          <a:xfrm>
            <a:off x="4572000" y="1981080"/>
            <a:ext cx="4327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gging St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nd that will grow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iscontinu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a new primer must add to yield a free OH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ongates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’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3’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                 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447920" y="4038480"/>
            <a:ext cx="601956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523880" y="6324480"/>
            <a:ext cx="601992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1447920" y="4572000"/>
            <a:ext cx="8380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2362320" y="4572000"/>
            <a:ext cx="5105160" cy="228600"/>
          </a:xfrm>
          <a:prstGeom prst="rect">
            <a:avLst/>
          </a:prstGeom>
          <a:solidFill>
            <a:srgbClr val="7030a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52880" y="5867280"/>
            <a:ext cx="2590920" cy="228600"/>
          </a:xfrm>
          <a:prstGeom prst="rect">
            <a:avLst/>
          </a:prstGeom>
          <a:solidFill>
            <a:srgbClr val="ff99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4419720" y="5867280"/>
            <a:ext cx="3808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Straight Arrow Connector 18"/>
          <p:cNvCxnSpPr/>
          <p:nvPr/>
        </p:nvCxnSpPr>
        <p:spPr>
          <a:xfrm>
            <a:off x="2286000" y="4952520"/>
            <a:ext cx="50299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20"/>
          <p:cNvCxnSpPr/>
          <p:nvPr/>
        </p:nvCxnSpPr>
        <p:spPr>
          <a:xfrm>
            <a:off x="5028840" y="5638320"/>
            <a:ext cx="247716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21" name="Rectangle 23"/>
          <p:cNvSpPr/>
          <p:nvPr/>
        </p:nvSpPr>
        <p:spPr>
          <a:xfrm>
            <a:off x="1981080" y="5867280"/>
            <a:ext cx="2362320" cy="228600"/>
          </a:xfrm>
          <a:prstGeom prst="rect">
            <a:avLst/>
          </a:prstGeom>
          <a:solidFill>
            <a:srgbClr val="ff99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1523880" y="5867280"/>
            <a:ext cx="38124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Straight Arrow Connector 25"/>
          <p:cNvCxnSpPr/>
          <p:nvPr/>
        </p:nvCxnSpPr>
        <p:spPr>
          <a:xfrm>
            <a:off x="1981080" y="5638320"/>
            <a:ext cx="247752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24" name="Straight Arrow Connector 26"/>
          <p:cNvCxnSpPr/>
          <p:nvPr/>
        </p:nvCxnSpPr>
        <p:spPr>
          <a:xfrm flipH="1" flipV="1">
            <a:off x="1523160" y="5333760"/>
            <a:ext cx="579204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gging St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gment = Okazaki Fra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gments synthesized by DNA polymerase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gments linked by DNA polymerase I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                 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                                                       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1523880" y="6324480"/>
            <a:ext cx="601992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4952880" y="5867280"/>
            <a:ext cx="2590920" cy="228600"/>
          </a:xfrm>
          <a:prstGeom prst="rect">
            <a:avLst/>
          </a:prstGeom>
          <a:solidFill>
            <a:srgbClr val="ff99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4419720" y="5867280"/>
            <a:ext cx="38088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Straight Arrow Connector 20"/>
          <p:cNvCxnSpPr/>
          <p:nvPr/>
        </p:nvCxnSpPr>
        <p:spPr>
          <a:xfrm>
            <a:off x="5028840" y="5638320"/>
            <a:ext cx="247716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33" name="Rectangle 23"/>
          <p:cNvSpPr/>
          <p:nvPr/>
        </p:nvSpPr>
        <p:spPr>
          <a:xfrm>
            <a:off x="1981080" y="5867280"/>
            <a:ext cx="2362320" cy="228600"/>
          </a:xfrm>
          <a:prstGeom prst="rect">
            <a:avLst/>
          </a:prstGeom>
          <a:solidFill>
            <a:srgbClr val="ff99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4"/>
          <p:cNvSpPr/>
          <p:nvPr/>
        </p:nvSpPr>
        <p:spPr>
          <a:xfrm>
            <a:off x="1523880" y="5867280"/>
            <a:ext cx="381240" cy="228600"/>
          </a:xfrm>
          <a:prstGeom prst="rect">
            <a:avLst/>
          </a:prstGeom>
          <a:solidFill>
            <a:srgbClr val="ff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Straight Arrow Connector 25"/>
          <p:cNvCxnSpPr/>
          <p:nvPr/>
        </p:nvCxnSpPr>
        <p:spPr>
          <a:xfrm>
            <a:off x="1981080" y="5638320"/>
            <a:ext cx="247752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6" name="Straight Arrow Connector 26"/>
          <p:cNvCxnSpPr/>
          <p:nvPr/>
        </p:nvCxnSpPr>
        <p:spPr>
          <a:xfrm flipH="1" flipV="1">
            <a:off x="1523160" y="5333760"/>
            <a:ext cx="579204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the Pri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A Primers are replaced by DNA Polymerse I, also called exonuc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gments joined by DNA Lig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1523880" y="5410080"/>
            <a:ext cx="6019920" cy="228600"/>
          </a:xfrm>
          <a:prstGeom prst="rect">
            <a:avLst/>
          </a:prstGeom>
          <a:solidFill>
            <a:srgbClr val="ff99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1523880" y="5791320"/>
            <a:ext cx="601992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1447920" y="3886200"/>
            <a:ext cx="6019560" cy="228600"/>
          </a:xfrm>
          <a:prstGeom prst="rect">
            <a:avLst/>
          </a:prstGeom>
          <a:solidFill>
            <a:srgbClr val="7030a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1447920" y="3505320"/>
            <a:ext cx="6019560" cy="22860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http://rds.yahoo.com/_ylt=A9gnMifTiRJGVm8BmXWjzbkF;_ylu=X3oDMTA4NDgyNWN0BHNlYwNwcm9m/SIG=12801vcvt/EXP=1175706451/**http%3A//www.prism.gatech.edu/~gh19/b1510/dnasynth.gif"/>
          <p:cNvPicPr/>
          <p:nvPr/>
        </p:nvPicPr>
        <p:blipFill>
          <a:blip r:embed="rId1"/>
          <a:srcRect l="30654" t="16770" r="7012" b="20347"/>
          <a:stretch/>
        </p:blipFill>
        <p:spPr>
          <a:xfrm>
            <a:off x="609480" y="1066680"/>
            <a:ext cx="8534520" cy="42674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7"/>
          <p:cNvSpPr/>
          <p:nvPr/>
        </p:nvSpPr>
        <p:spPr>
          <a:xfrm>
            <a:off x="1371600" y="3886200"/>
            <a:ext cx="1523880" cy="914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990720" y="4800600"/>
            <a:ext cx="1218960" cy="1066680"/>
          </a:xfrm>
          <a:prstGeom prst="hexagon">
            <a:avLst>
              <a:gd name="adj" fmla="val 28569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1676520" y="4495680"/>
            <a:ext cx="914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143000" y="5638680"/>
            <a:ext cx="762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2819520" y="4800600"/>
            <a:ext cx="533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2057400" y="5486400"/>
            <a:ext cx="6858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in Synthesis Reactions &amp;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17 &amp;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http://rds.yahoo.com/_ylt=A0WTefedtgpNeHcAx_6jzbkF/SIG=1243o93ai/EXP=1292634141/**http%3a/cnx.org/content/m12382/latest/dogma_1.gif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 Th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NA structure shows how it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p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how how it’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n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is like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ibr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Informatio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a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us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5" descr="http://rds.yahoo.com/_ylt=A9gnMigejhJG_xUACQ6jzbkF;_ylu=X3oDMTA4NDgyNWN0BHNlYwNwcm9m/SIG=11rdtot0s/EXP=1175707550/**http%3A//paulenglish.com/images/books.jpg"/>
          <p:cNvPicPr/>
          <p:nvPr/>
        </p:nvPicPr>
        <p:blipFill>
          <a:blip r:embed="rId1"/>
          <a:stretch/>
        </p:blipFill>
        <p:spPr>
          <a:xfrm>
            <a:off x="5867280" y="1752480"/>
            <a:ext cx="3040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 Th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inform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s to 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rote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this so impor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ins do almo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rything!!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http://rds.yahoo.com/_ylt=A9gnMiN0jxJG1XMAkEmjzbkF;_ylu=X3oDMTA4NDgyNWN0BHNlYwNwcm9m/SIG=133e8ehqj/EXP=1175707892/**http%3A//www.cjbalm.com/auto-aero/images/jaeger%2520sunbeam%2520car%2520clock.jpg"/>
          <p:cNvPicPr/>
          <p:nvPr/>
        </p:nvPicPr>
        <p:blipFill>
          <a:blip r:embed="rId1"/>
          <a:srcRect l="3415" t="5161" r="3415" b="7106"/>
          <a:stretch/>
        </p:blipFill>
        <p:spPr>
          <a:xfrm>
            <a:off x="5257800" y="129528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http://rds.yahoo.com/_ylt=A9gnMiK1jxJGfVcAi0qjzbkF;_ylu=X3oDMTA4NDgyNWN0BHNlYwNwcm9m/SIG=12cstvu9r/EXP=1175707957/**http%3A//www.kacr.or.kr/img/gene_expression/hemoglobin.jpg"/>
          <p:cNvPicPr/>
          <p:nvPr/>
        </p:nvPicPr>
        <p:blipFill>
          <a:blip r:embed="rId2"/>
          <a:srcRect l="0" t="41264" r="81751" b="32515"/>
          <a:stretch/>
        </p:blipFill>
        <p:spPr>
          <a:xfrm>
            <a:off x="5562720" y="2971800"/>
            <a:ext cx="87624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http://rds.yahoo.com/_ylt=A9gnMiQtkBJGRLEAFB.jzbkF;_ylu=X3oDMTA4NDgyNWN0BHNlYwNwcm9m/SIG=15tj4qa0g/EXP=1175708077/**http%3A//www.gotpetsonline.com/pictures-gallery/dog-pictures-breeders-puppies-rescue/doberman-pinscher-pictures-breeders-puppies-rescue/pictures/doberman-pinscher-0058.jpg"/>
          <p:cNvPicPr/>
          <p:nvPr/>
        </p:nvPicPr>
        <p:blipFill>
          <a:blip r:embed="rId3"/>
          <a:stretch/>
        </p:blipFill>
        <p:spPr>
          <a:xfrm>
            <a:off x="7238880" y="1066680"/>
            <a:ext cx="1649520" cy="2590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http://rds.yahoo.com/_ylt=A9gnMigUkRJGDBYAPV.jzbkF;_ylu=X3oDMTA4NDgyNWN0BHNlYwNwcm9m/SIG=12mghgp00/EXP=1175708308/**http%3A//hairstyle.internetpublishingcenter.com/sedu-hairstyles3.jpg"/>
          <p:cNvPicPr/>
          <p:nvPr/>
        </p:nvPicPr>
        <p:blipFill>
          <a:blip r:embed="rId4"/>
          <a:srcRect l="52230" t="0" r="0" b="8563"/>
          <a:stretch/>
        </p:blipFill>
        <p:spPr>
          <a:xfrm>
            <a:off x="5105520" y="4419720"/>
            <a:ext cx="1638360" cy="1849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http://rds.yahoo.com/_ylt=A9iby4UkkhJGKWoAV2OjzbkF;_ylu=X3oDMTA4NDgyNWN0BHNlYwNwcm9m/SIG=12p92sq18/EXP=1175708580/**http%3A//medicalimages.allrefer.com/large/active-vs-inactive-muscle.jpg"/>
          <p:cNvPicPr/>
          <p:nvPr/>
        </p:nvPicPr>
        <p:blipFill>
          <a:blip r:embed="rId5"/>
          <a:srcRect l="3336" t="12507" r="65010" b="6248"/>
          <a:stretch/>
        </p:blipFill>
        <p:spPr>
          <a:xfrm>
            <a:off x="7162920" y="3886200"/>
            <a:ext cx="1447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ifferent from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el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5" descr="http://rds.yahoo.com/_ylt=A9gnMiJ.xRNGxXEBCxGjzbkF;_ylu=X3oDMTA4NDgyNWN0BHNlYwNwcm9m/SIG=12skk1ud3/EXP=1175787262/**http%3A//images2.clinicaltools.com/images/gene/dna_versus_rna_reversed.jpg"/>
          <p:cNvPicPr/>
          <p:nvPr/>
        </p:nvPicPr>
        <p:blipFill>
          <a:blip r:embed="rId1"/>
          <a:srcRect l="19674" t="0" r="25686" b="7766"/>
          <a:stretch/>
        </p:blipFill>
        <p:spPr>
          <a:xfrm>
            <a:off x="4572000" y="304920"/>
            <a:ext cx="4343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A is different from D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ugar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ibo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t deoxyrib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http://rds.yahoo.com/_ylt=A9gnMiNixhNG2wcAK3OjzbkF;_ylu=X3oDMTA4NDgyNWN0BHNlYwNwcm9m/SIG=13atn04s3/EXP=1175787490/**http%3A//www.enq.ufsc.br/labs/probio/disc_eng_bioq/trabalhos_pos2003/genetica/rna001.gif"/>
          <p:cNvPicPr/>
          <p:nvPr/>
        </p:nvPicPr>
        <p:blipFill>
          <a:blip r:embed="rId1"/>
          <a:srcRect l="7271" t="11551" r="0" b="-998"/>
          <a:stretch/>
        </p:blipFill>
        <p:spPr>
          <a:xfrm>
            <a:off x="3733920" y="380880"/>
            <a:ext cx="5181480" cy="2895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http://rds.yahoo.com/_ylt=A9gnMiOJxhNGEAYA9V.jzbkF;_ylu=X3oDMTA4NDgyNWN0BHNlYwNwcm9m/SIG=12h3eaofm/EXP=1175787529/**http%3A//www.langara.bc.ca/biology/mario/Assets/deoxyribose.jpg"/>
          <p:cNvPicPr/>
          <p:nvPr/>
        </p:nvPicPr>
        <p:blipFill>
          <a:blip r:embed="rId2"/>
          <a:stretch/>
        </p:blipFill>
        <p:spPr>
          <a:xfrm>
            <a:off x="3352680" y="3733920"/>
            <a:ext cx="5521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Experiment  #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mooth bacteria h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ou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cteria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ix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moo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://rds.yahoo.com/_ylt=A9ibyGWF2g9GzoYADw.jzbkF;_ylu=X3oDMTA4NDgyNWN0BHNlYwNwcm9m/SIG=12nmobsou/EXP=1175530501/**http%3A//www.uic.edu/classes/bios/bios100/summer2003/figure11_1ad.jpg"/>
          <p:cNvPicPr/>
          <p:nvPr/>
        </p:nvPicPr>
        <p:blipFill>
          <a:blip r:embed="rId1"/>
          <a:srcRect l="0" t="0" r="64010" b="0"/>
          <a:stretch/>
        </p:blipFill>
        <p:spPr>
          <a:xfrm>
            <a:off x="4800600" y="1752480"/>
            <a:ext cx="361476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A is different from D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N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HYM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Urac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ead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ai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den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http://rds.yahoo.com/_ylt=A9gnMiAVxxNGUukA4GyjzbkF;_ylu=X3oDMTA4NDgyNWN0BHNlYwNwcm9m/SIG=12kc36rj4/EXP=1175787669/**http%3A//www.cofc.edu/~deavorj/102/images/nucleic/graphic/rna2.gif"/>
          <p:cNvPicPr/>
          <p:nvPr/>
        </p:nvPicPr>
        <p:blipFill>
          <a:blip r:embed="rId1"/>
          <a:srcRect l="0" t="0" r="57548" b="0"/>
          <a:stretch/>
        </p:blipFill>
        <p:spPr>
          <a:xfrm>
            <a:off x="5181480" y="457200"/>
            <a:ext cx="371484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3 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essen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 as “messengers” that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ar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Made d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8" descr="http://rds.yahoo.com/_ylt=A9gnMilfyBNG3GUBhAejzbkF;_ylu=X3oDMTA4NDgyNWN0BHNlYwNwcm9m/SIG=12dagloab/EXP=1175787999/**http%3A//cremationofcare.com/images/icon_carrier_pigeon.bmp"/>
          <p:cNvPicPr/>
          <p:nvPr/>
        </p:nvPicPr>
        <p:blipFill>
          <a:blip r:embed="rId1"/>
          <a:stretch/>
        </p:blipFill>
        <p:spPr>
          <a:xfrm>
            <a:off x="5334120" y="2438280"/>
            <a:ext cx="22176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ib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ogether 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ibo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at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rocess o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6" descr="http://rds.yahoo.com/_ylt=A9gnMiawyRNGU9IALHyjzbkF;_ylu=X3oDMTA4NDgyNWN0BHNlYwNwcm9m/SIG=12cb75l5q/EXP=1175788336/**http%3A//www.cofc.edu/~deavorj/102/images/nucleic/rrna.jpg"/>
          <p:cNvPicPr/>
          <p:nvPr/>
        </p:nvPicPr>
        <p:blipFill>
          <a:blip r:embed="rId1"/>
          <a:srcRect l="60420" t="0" r="0" b="0"/>
          <a:stretch/>
        </p:blipFill>
        <p:spPr>
          <a:xfrm>
            <a:off x="4800600" y="152388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ansf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NA (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ng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mino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ibosomes during transl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" descr="http://rds.yahoo.com/_ylt=A9gnMiW0yhNGOBUBEHijzbkF;_ylu=X3oDMTA4NDgyNWN0BHNlYwNwcm9m/SIG=12f6cp4td/EXP=1175788596/**http%3A//www.emc.maricopa.edu/faculty/farabee/BIOBK/tRNA2.gif"/>
          <p:cNvPicPr/>
          <p:nvPr/>
        </p:nvPicPr>
        <p:blipFill>
          <a:blip r:embed="rId1"/>
          <a:srcRect l="47060" t="0" r="0" b="9645"/>
          <a:stretch/>
        </p:blipFill>
        <p:spPr>
          <a:xfrm>
            <a:off x="4038480" y="1523880"/>
            <a:ext cx="4762800" cy="48783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7"/>
          <p:cNvSpPr/>
          <p:nvPr/>
        </p:nvSpPr>
        <p:spPr>
          <a:xfrm>
            <a:off x="4038480" y="1523880"/>
            <a:ext cx="205740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6858000" y="1523880"/>
            <a:ext cx="1143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248520" y="1676520"/>
            <a:ext cx="1066680" cy="8380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. Protein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make a protein = Specific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e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4" descr="dklawmekda.bmp"/>
          <p:cNvPicPr/>
          <p:nvPr/>
        </p:nvPicPr>
        <p:blipFill>
          <a:blip r:embed="rId1"/>
          <a:srcRect l="0" t="38011" r="0" b="0"/>
          <a:stretch/>
        </p:blipFill>
        <p:spPr>
          <a:xfrm>
            <a:off x="1676520" y="2743200"/>
            <a:ext cx="5817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Tran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anscription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ymeras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ttach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romo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ig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where t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1" descr="http://rds.yahoo.com/_ylt=A9iby6Ap3xNGtjIBhjSjzbkF;_ylu=X3oDMTA4NDgyNWN0BHNlYwNwcm9m/SIG=12qrrfhn1/EXP=1175793833/**http%3A//gerard.chevrier.m2osw.com/gcartable/genetique/transcription.jpg"/>
          <p:cNvPicPr/>
          <p:nvPr/>
        </p:nvPicPr>
        <p:blipFill>
          <a:blip r:embed="rId1"/>
          <a:srcRect l="0" t="0" r="37501" b="77502"/>
          <a:stretch/>
        </p:blipFill>
        <p:spPr>
          <a:xfrm>
            <a:off x="1066680" y="3962520"/>
            <a:ext cx="6782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 RN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olymer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unwi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his portion o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4" descr="http://rds.yahoo.com/_ylt=A9iby6Ap3xNGtjIBhjSjzbkF;_ylu=X3oDMTA4NDgyNWN0BHNlYwNwcm9m/SIG=12qrrfhn1/EXP=1175793833/**http%3A//gerard.chevrier.m2osw.com/gcartable/genetique/transcription.jpg"/>
          <p:cNvPicPr/>
          <p:nvPr/>
        </p:nvPicPr>
        <p:blipFill>
          <a:blip r:embed="rId1"/>
          <a:srcRect l="0" t="20262" r="24863" b="57240"/>
          <a:stretch/>
        </p:blipFill>
        <p:spPr>
          <a:xfrm>
            <a:off x="533520" y="3352680"/>
            <a:ext cx="8153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ymerase “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a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he DN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mp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equence from 3’ </a:t>
            </a:r>
            <a:r>
              <a:rPr b="1" lang="en-US" sz="3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5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ranscrib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RNA 5’ </a:t>
            </a:r>
            <a:r>
              <a:rPr b="1" lang="en-US" sz="3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3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Template = non-coding st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 Non-template = CODING st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4" descr="http://rds.yahoo.com/_ylt=A9iby6Ap3xNGtjIBhjSjzbkF;_ylu=X3oDMTA4NDgyNWN0BHNlYwNwcm9m/SIG=12qrrfhn1/EXP=1175793833/**http%3A//gerard.chevrier.m2osw.com/gcartable/genetique/transcription.jpg"/>
          <p:cNvPicPr/>
          <p:nvPr/>
        </p:nvPicPr>
        <p:blipFill>
          <a:blip r:embed="rId1"/>
          <a:srcRect l="20126" t="43953" r="21573" b="39472"/>
          <a:stretch/>
        </p:blipFill>
        <p:spPr>
          <a:xfrm>
            <a:off x="762120" y="5029200"/>
            <a:ext cx="8001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RNA Ed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ly mad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informatio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ot nee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making the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ntr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x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ecess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ei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t ou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tr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5" descr="http://rds.yahoo.com/_ylt=A9iby4AH4hNG2mcAn2WjzbkF;_ylu=X3oDMTA4NDgyNWN0BHNlYwNwcm9m/SIG=12eqc05te/EXP=1175794567/**http%3A//staff.jccc.net/pdecell/proteinsynthesis/introns.gif"/>
          <p:cNvPicPr/>
          <p:nvPr/>
        </p:nvPicPr>
        <p:blipFill>
          <a:blip r:embed="rId1"/>
          <a:srcRect l="0" t="28768" r="0" b="0"/>
          <a:stretch/>
        </p:blipFill>
        <p:spPr>
          <a:xfrm>
            <a:off x="2971800" y="3809880"/>
            <a:ext cx="5867280" cy="27622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6"/>
          <p:cNvSpPr/>
          <p:nvPr/>
        </p:nvSpPr>
        <p:spPr>
          <a:xfrm>
            <a:off x="2971800" y="3809880"/>
            <a:ext cx="3049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Transpo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N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ea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ucleus via nuclear po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o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ytopla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N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ttach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ibosome from its 5’ 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5" descr="http://rds.yahoo.com/_ylt=A9iby6AB5BNGaDgB7majzbkF;_ylu=X3oDMTA4NDgyNWN0BHNlYwNwcm9m/SIG=12n09ej6u/EXP=1175795073/**http%3A//people.emich.edu/pbogle/PHED_200/overheads/ch4_art/04_12.jpg"/>
          <p:cNvPicPr/>
          <p:nvPr/>
        </p:nvPicPr>
        <p:blipFill>
          <a:blip r:embed="rId1"/>
          <a:srcRect l="29139" t="16654" r="27115" b="52802"/>
          <a:stretch/>
        </p:blipFill>
        <p:spPr>
          <a:xfrm>
            <a:off x="2971800" y="3809880"/>
            <a:ext cx="45720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0" name="Rectangle 6"/>
          <p:cNvSpPr/>
          <p:nvPr/>
        </p:nvSpPr>
        <p:spPr>
          <a:xfrm>
            <a:off x="3962520" y="3809880"/>
            <a:ext cx="2666880" cy="1219320"/>
          </a:xfrm>
          <a:prstGeom prst="rect">
            <a:avLst/>
          </a:prstGeom>
          <a:solidFill>
            <a:srgbClr val="f2f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4572000" y="4419720"/>
            <a:ext cx="1752480" cy="1143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4343400" y="5638680"/>
            <a:ext cx="2133720" cy="60984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4267080" y="5562720"/>
            <a:ext cx="685800" cy="4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5867280" y="5562720"/>
            <a:ext cx="685800" cy="4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Experiment  #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ous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i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pneu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http://rds.yahoo.com/_ylt=A9ibyGWF2g9GzoYADw.jzbkF;_ylu=X3oDMTA4NDgyNWN0BHNlYwNwcm9m/SIG=12nmobsou/EXP=1175530501/**http%3A//www.uic.edu/classes/bios/bios100/summer2003/figure11_1ad.jpg"/>
          <p:cNvPicPr/>
          <p:nvPr/>
        </p:nvPicPr>
        <p:blipFill>
          <a:blip r:embed="rId1"/>
          <a:srcRect l="0" t="0" r="605" b="0"/>
          <a:stretch/>
        </p:blipFill>
        <p:spPr>
          <a:xfrm>
            <a:off x="1295280" y="3352680"/>
            <a:ext cx="7010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mino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 a “code”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d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d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3 b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1" descr="http://rds.yahoo.com/_ylt=A9iby4X5DhRGZ8IAxRmjzbkF;_ylu=X3oDMTA4NDgyNWN0BHNlYwNwcm9m/SIG=12nrfaaq2/EXP=1175806073/**http%3A//people.emich.edu/pbogle/PHED_200/overheads/ch4_art/04_12.jpg"/>
          <p:cNvPicPr/>
          <p:nvPr/>
        </p:nvPicPr>
        <p:blipFill>
          <a:blip r:embed="rId1"/>
          <a:srcRect l="74143" t="46158" r="1599" b="27892"/>
          <a:stretch/>
        </p:blipFill>
        <p:spPr>
          <a:xfrm>
            <a:off x="4038480" y="2209680"/>
            <a:ext cx="5105520" cy="3886200"/>
          </a:xfrm>
          <a:prstGeom prst="rect">
            <a:avLst/>
          </a:prstGeom>
          <a:ln w="0">
            <a:noFill/>
          </a:ln>
        </p:spPr>
      </p:pic>
      <p:sp>
        <p:nvSpPr>
          <p:cNvPr id="318" name="Oval 12"/>
          <p:cNvSpPr/>
          <p:nvPr/>
        </p:nvSpPr>
        <p:spPr>
          <a:xfrm>
            <a:off x="3962520" y="3048120"/>
            <a:ext cx="1523880" cy="99036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3886200" y="3962520"/>
            <a:ext cx="1523880" cy="99036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15"/>
          <p:cNvSpPr/>
          <p:nvPr/>
        </p:nvSpPr>
        <p:spPr>
          <a:xfrm>
            <a:off x="3886200" y="5029200"/>
            <a:ext cx="1523880" cy="99072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tic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9" descr="http://rds.yahoo.com/_ylt=A9iby4XZEBRG2MMADjSjzbkF;_ylu=X3oDMTA4NDgyNWN0BHNlYwNwcm9m/SIG=12d4ouhhs/EXP=1175806553/**http%3A//biology.kenyon.edu/courses/biol114/Chap05/code.gif"/>
          <p:cNvPicPr/>
          <p:nvPr/>
        </p:nvPicPr>
        <p:blipFill>
          <a:blip r:embed="rId1"/>
          <a:stretch/>
        </p:blipFill>
        <p:spPr>
          <a:xfrm>
            <a:off x="533520" y="1066680"/>
            <a:ext cx="81374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ibosome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don 5’ </a:t>
            </a:r>
            <a:r>
              <a:rPr b="1" lang="en-US" sz="3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3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r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matching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mino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Eac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nticod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air with each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d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http://rds.yahoo.com/_ylt=A9iby4VzEhRG6sIAWICjzbkF;_ylu=X3oDMTA4NDgyNWN0BHNlYwNwcm9m/SIG=12qp0i0co/EXP=1175806963/**http%3A//www.theory-of-evolution.net/chap3/translation-ribosome1-3-8.GIF"/>
          <p:cNvPicPr/>
          <p:nvPr/>
        </p:nvPicPr>
        <p:blipFill>
          <a:blip r:embed="rId1"/>
          <a:srcRect l="55792" t="0" r="0" b="35164"/>
          <a:stretch/>
        </p:blipFill>
        <p:spPr>
          <a:xfrm>
            <a:off x="4267080" y="2133720"/>
            <a:ext cx="4876920" cy="41907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6"/>
          <p:cNvSpPr/>
          <p:nvPr/>
        </p:nvSpPr>
        <p:spPr>
          <a:xfrm>
            <a:off x="4876920" y="4267080"/>
            <a:ext cx="22096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7"/>
          <p:cNvSpPr/>
          <p:nvPr/>
        </p:nvSpPr>
        <p:spPr>
          <a:xfrm flipH="1">
            <a:off x="5029200" y="4267080"/>
            <a:ext cx="914400" cy="990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"/>
          <p:cNvSpPr/>
          <p:nvPr/>
        </p:nvSpPr>
        <p:spPr>
          <a:xfrm flipH="1">
            <a:off x="6095880" y="4343400"/>
            <a:ext cx="10670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 flipH="1">
            <a:off x="6933960" y="4267080"/>
            <a:ext cx="1143000" cy="990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.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no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NA  brings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mino ac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pt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m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mino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1" descr="http://rds.yahoo.com/_ylt=A9iby4EKFBRGEhABTiqjzbkF;_ylu=X3oDMTA4NDgyNWN0BHNlYwNwcm9m/SIG=12skddj44/EXP=1175807370/**http%3A//www.theory-of-evolution.net/chap3/3-10-translation-initiation.GIF"/>
          <p:cNvPicPr/>
          <p:nvPr/>
        </p:nvPicPr>
        <p:blipFill>
          <a:blip r:embed="rId1"/>
          <a:srcRect l="29185" t="13450" r="15520" b="34669"/>
          <a:stretch/>
        </p:blipFill>
        <p:spPr>
          <a:xfrm>
            <a:off x="4191120" y="1905120"/>
            <a:ext cx="4952880" cy="43434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2"/>
          <p:cNvSpPr/>
          <p:nvPr/>
        </p:nvSpPr>
        <p:spPr>
          <a:xfrm>
            <a:off x="5486400" y="1905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4495680" y="2057400"/>
            <a:ext cx="1828800" cy="5335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.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pea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til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ntire 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read and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4" descr="awASD.bmp"/>
          <p:cNvPicPr/>
          <p:nvPr/>
        </p:nvPicPr>
        <p:blipFill>
          <a:blip r:embed="rId1"/>
          <a:srcRect l="10132" t="26664" r="5285" b="5327"/>
          <a:stretch/>
        </p:blipFill>
        <p:spPr>
          <a:xfrm>
            <a:off x="4038480" y="1371600"/>
            <a:ext cx="5019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= Any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rig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5" descr="http://rds.yahoo.com/_ylt=A9iby4BPIBRG_LMASQejzbkF;_ylu=X3oDMTA4NDgyNWN0BHNlYwNwcm9m/SIG=11tt2mk6p/EXP=1175810511/**http%3A//www.novia.net/~kcarlson/x-men4.jpg"/>
          <p:cNvPicPr/>
          <p:nvPr/>
        </p:nvPicPr>
        <p:blipFill>
          <a:blip r:embed="rId1"/>
          <a:stretch/>
        </p:blipFill>
        <p:spPr>
          <a:xfrm>
            <a:off x="5257800" y="3276720"/>
            <a:ext cx="3581280" cy="3028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http://rds.yahoo.com/_ylt=A9iby6GaIBRG8iUApnWjzbkF;_ylu=X3oDMTA4NDgyNWN0BHNlYwNwcm9m/SIG=12dhh4i17/EXP=1175810586/**http%3A//filmfreakcentral.net/screenreviews/spider-man2.jpg"/>
          <p:cNvPicPr/>
          <p:nvPr/>
        </p:nvPicPr>
        <p:blipFill>
          <a:blip r:embed="rId2"/>
          <a:srcRect l="0" t="0" r="0" b="6573"/>
          <a:stretch/>
        </p:blipFill>
        <p:spPr>
          <a:xfrm>
            <a:off x="304920" y="2895480"/>
            <a:ext cx="4800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e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tations: Chang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tations: Changes to one or a few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7" descr="http://rds.yahoo.com/_ylt=A9gnMibMQBRG_T0BKXGjzbkF;_ylu=X3oDMTA4NDgyNWN0BHNlYwNwcm9m/SIG=12p3lc4pg/EXP=1175818828/**http%3A//www.mad-cow.org/prion_structure_folder/human_mutsRIB_pnas.jpeg"/>
          <p:cNvPicPr/>
          <p:nvPr/>
        </p:nvPicPr>
        <p:blipFill>
          <a:blip r:embed="rId1"/>
          <a:stretch/>
        </p:blipFill>
        <p:spPr>
          <a:xfrm>
            <a:off x="4495680" y="2362320"/>
            <a:ext cx="4419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base with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5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1"/>
          <a:srcRect l="33533" t="5910" r="26352" b="80294"/>
          <a:stretch/>
        </p:blipFill>
        <p:spPr>
          <a:xfrm>
            <a:off x="2819520" y="1676520"/>
            <a:ext cx="6095880" cy="1600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2"/>
          <a:srcRect l="60367" t="33191" r="1150" b="52436"/>
          <a:stretch/>
        </p:blipFill>
        <p:spPr>
          <a:xfrm>
            <a:off x="2819520" y="3505320"/>
            <a:ext cx="5867280" cy="1447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3"/>
          <a:srcRect l="60367" t="57156" r="1150" b="28471"/>
          <a:stretch/>
        </p:blipFill>
        <p:spPr>
          <a:xfrm>
            <a:off x="2819520" y="5105520"/>
            <a:ext cx="58672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s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ase or cod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4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1"/>
          <a:srcRect l="33533" t="5910" r="26352" b="80294"/>
          <a:stretch/>
        </p:blipFill>
        <p:spPr>
          <a:xfrm>
            <a:off x="2666880" y="2057400"/>
            <a:ext cx="6096240" cy="1600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2"/>
          <a:srcRect l="7071" t="55718" r="50635" b="29228"/>
          <a:stretch/>
        </p:blipFill>
        <p:spPr>
          <a:xfrm>
            <a:off x="2743200" y="4343400"/>
            <a:ext cx="6019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ir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d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4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1"/>
          <a:srcRect l="33533" t="5910" r="26352" b="80294"/>
          <a:stretch/>
        </p:blipFill>
        <p:spPr>
          <a:xfrm>
            <a:off x="2666880" y="1905120"/>
            <a:ext cx="6096240" cy="1600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2"/>
          <a:srcRect l="8142" t="73043" r="59669" b="3619"/>
          <a:stretch/>
        </p:blipFill>
        <p:spPr>
          <a:xfrm>
            <a:off x="2666880" y="3886200"/>
            <a:ext cx="6096240" cy="27432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7"/>
          <p:cNvSpPr/>
          <p:nvPr/>
        </p:nvSpPr>
        <p:spPr>
          <a:xfrm>
            <a:off x="2666880" y="4191120"/>
            <a:ext cx="2133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4724280" y="4191120"/>
            <a:ext cx="205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Conclu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ing,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arm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cteria + dead,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isease-ca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cteria = pneumo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 harmless type somehow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cqui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rmful 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http://rds.yahoo.com/_ylt=A9iby4UV7Q9GEIAB4SujzbkF;_ylu=X3oDMTA4NDgyNWN0BHNlYwNwcm9m/SIG=12258c3k4/EXP=1175535253/**http%3A//www.wsu.edu/~nneka_njoku/conclusion.gif"/>
          <p:cNvPicPr/>
          <p:nvPr/>
        </p:nvPicPr>
        <p:blipFill>
          <a:blip r:embed="rId1"/>
          <a:stretch/>
        </p:blipFill>
        <p:spPr>
          <a:xfrm>
            <a:off x="4114800" y="4876920"/>
            <a:ext cx="268128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s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4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1"/>
          <a:srcRect l="33533" t="5910" r="26352" b="80294"/>
          <a:stretch/>
        </p:blipFill>
        <p:spPr>
          <a:xfrm>
            <a:off x="2666880" y="1752480"/>
            <a:ext cx="6248520" cy="1905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2"/>
          <a:srcRect l="8142" t="30109" r="52152" b="52670"/>
          <a:stretch/>
        </p:blipFill>
        <p:spPr>
          <a:xfrm>
            <a:off x="2743200" y="4267080"/>
            <a:ext cx="6172200" cy="21243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2743200" y="426708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Frameshift mutation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nge the reading 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4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1"/>
          <a:srcRect l="33533" t="5910" r="26352" b="80294"/>
          <a:stretch/>
        </p:blipFill>
        <p:spPr>
          <a:xfrm>
            <a:off x="2666880" y="1752480"/>
            <a:ext cx="6248520" cy="1905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http://rds.yahoo.com/_ylt=A9gnMiLsKRRGV0oAh3ajzbkF;_ylu=X3oDMTA4NDgyNWN0BHNlYwNwcm9m/SIG=12enbqp3d/EXP=1175812972/**http%3A//kvhs.nbed.nb.ca/gallant/biology/point_mutations.jpg"/>
          <p:cNvPicPr/>
          <p:nvPr/>
        </p:nvPicPr>
        <p:blipFill>
          <a:blip r:embed="rId2"/>
          <a:srcRect l="8142" t="30109" r="52152" b="52670"/>
          <a:stretch/>
        </p:blipFill>
        <p:spPr>
          <a:xfrm>
            <a:off x="2743200" y="4267080"/>
            <a:ext cx="6172200" cy="2124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2743200" y="426708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hrom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tations: Change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hromosomes or their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ru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12" descr="http://rds.yahoo.com/_ylt=A9gnMimlQhRG9VMA5RqjzbkF;_ylu=X3oDMTA4NDgyNWN0BHNlYwNwcm9m/SIG=12itlmthg/EXP=1175819301/**http%3A//faculty.uca.edu/~benw/biol1400/pictures/chromosomes.jpg"/>
          <p:cNvPicPr/>
          <p:nvPr/>
        </p:nvPicPr>
        <p:blipFill>
          <a:blip r:embed="rId1"/>
          <a:stretch/>
        </p:blipFill>
        <p:spPr>
          <a:xfrm>
            <a:off x="3429000" y="2819520"/>
            <a:ext cx="3962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ocation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on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rea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f and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ttach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4" descr="http://rds.yahoo.com/_ylt=A9gnMigUQhRG8x4AqRCjzbkF;_ylu=X3oDMTA4NDgyNWN0BHNlYwNwcm9m/SIG=12d2fsote/EXP=1175819156/**http%3A//staff.tuhsd.k12.az.us/gfoster/standard/mutate5.gif"/>
          <p:cNvPicPr/>
          <p:nvPr/>
        </p:nvPicPr>
        <p:blipFill>
          <a:blip r:embed="rId1"/>
          <a:srcRect l="0" t="71145" r="0" b="0"/>
          <a:stretch/>
        </p:blipFill>
        <p:spPr>
          <a:xfrm>
            <a:off x="1828800" y="2666880"/>
            <a:ext cx="5334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verses dir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some pa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4" descr="http://rds.yahoo.com/_ylt=A9gnMigUQhRG8x4AqRCjzbkF;_ylu=X3oDMTA4NDgyNWN0BHNlYwNwcm9m/SIG=12d2fsote/EXP=1175819156/**http%3A//staff.tuhsd.k12.az.us/gfoster/standard/mutate5.gif"/>
          <p:cNvPicPr/>
          <p:nvPr/>
        </p:nvPicPr>
        <p:blipFill>
          <a:blip r:embed="rId1"/>
          <a:srcRect l="76901" t="8230" r="-1007" b="61219"/>
          <a:stretch/>
        </p:blipFill>
        <p:spPr>
          <a:xfrm>
            <a:off x="2819520" y="251460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: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me pa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4" descr="http://rds.yahoo.com/_ylt=A9gnMigUQhRG8x4AqRCjzbkF;_ylu=X3oDMTA4NDgyNWN0BHNlYwNwcm9m/SIG=12d2fsote/EXP=1175819156/**http%3A//staff.tuhsd.k12.az.us/gfoster/standard/mutate5.gif"/>
          <p:cNvPicPr/>
          <p:nvPr/>
        </p:nvPicPr>
        <p:blipFill>
          <a:blip r:embed="rId1"/>
          <a:srcRect l="102" t="9287" r="72479" b="65069"/>
          <a:stretch/>
        </p:blipFill>
        <p:spPr>
          <a:xfrm>
            <a:off x="2971800" y="228600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ion: Adds a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xtra co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some pa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4" descr="http://rds.yahoo.com/_ylt=A9gnMigUQhRG8x4AqRCjzbkF;_ylu=X3oDMTA4NDgyNWN0BHNlYwNwcm9m/SIG=12d2fsote/EXP=1175819156/**http%3A//staff.tuhsd.k12.az.us/gfoster/standard/mutate5.gif"/>
          <p:cNvPicPr/>
          <p:nvPr/>
        </p:nvPicPr>
        <p:blipFill>
          <a:blip r:embed="rId1"/>
          <a:srcRect l="35882" t="9287" r="34321" b="59723"/>
          <a:stretch/>
        </p:blipFill>
        <p:spPr>
          <a:xfrm>
            <a:off x="2743200" y="2133720"/>
            <a:ext cx="3200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ignific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 Change can be harmful: Produc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efe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eins,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se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many genetic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sord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8" descr="http://rds.yahoo.com/_ylt=A9iby6FvSBRGI24AvD2jzbkF;_ylu=X3oDMTA4NDgyNWN0BHNlYwNwcm9m/SIG=12bi9g9n6/EXP=1175820783/**http%3A//www.harunyahya.com/images/ramadan/mutations3.jpg"/>
          <p:cNvPicPr/>
          <p:nvPr/>
        </p:nvPicPr>
        <p:blipFill>
          <a:blip r:embed="rId1"/>
          <a:stretch/>
        </p:blipFill>
        <p:spPr>
          <a:xfrm>
            <a:off x="5943600" y="2438280"/>
            <a:ext cx="27781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.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ignific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can be good: Produc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zymes, develop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s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, there is little or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o eff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4" descr="http://rds.yahoo.com/_ylt=A9ibyGb7RxRGk5sABUyjzbkF;_ylu=X3oDMTA4NDgyNWN0BHNlYwNwcm9m/SIG=12oirvfh0/EXP=1175820667/**http%3A//www.seniorcitizens.com/images/the_bird_flu_newsweek_cover.jpg"/>
          <p:cNvPicPr/>
          <p:nvPr/>
        </p:nvPicPr>
        <p:blipFill>
          <a:blip r:embed="rId1"/>
          <a:stretch/>
        </p:blipFill>
        <p:spPr>
          <a:xfrm>
            <a:off x="5638680" y="1371600"/>
            <a:ext cx="32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genes work in groups = Op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Coli bacteria: Lactose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Lac Operon = 3 genes work togeth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to make lactase (breaks down lact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7" descr="http://rds.yahoo.com/_ylt=A9iby4SCThRGhb0AkRujzbkF;_ylu=X3oDMTA4NDgyNWN0BHNlYwNwcm9m/SIG=130obfdc7/EXP=1175822338/**http%3A//xray.bmc.uu.se/Courses/Bke2/Exercises/Exercise_answers/lac_operon.gif"/>
          <p:cNvPicPr/>
          <p:nvPr/>
        </p:nvPicPr>
        <p:blipFill>
          <a:blip r:embed="rId1"/>
          <a:srcRect l="0" t="0" r="17024" b="86514"/>
          <a:stretch/>
        </p:blipFill>
        <p:spPr>
          <a:xfrm>
            <a:off x="457200" y="3962520"/>
            <a:ext cx="8305920" cy="25923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1066680" y="4724280"/>
            <a:ext cx="7162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1752480" y="5943600"/>
            <a:ext cx="281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533520" y="5257800"/>
            <a:ext cx="15238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Conclu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e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arm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 wa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rans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a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armfu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his ability wa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heri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ight be caused by a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http://rds.yahoo.com/_ylt=A9iby4UV7Q9GEIAB4SujzbkF;_ylu=X3oDMTA4NDgyNWN0BHNlYwNwcm9m/SIG=12258c3k4/EXP=1175535253/**http%3A//www.wsu.edu/~nneka_njoku/conclusion.gif"/>
          <p:cNvPicPr/>
          <p:nvPr/>
        </p:nvPicPr>
        <p:blipFill>
          <a:blip r:embed="rId1"/>
          <a:stretch/>
        </p:blipFill>
        <p:spPr>
          <a:xfrm>
            <a:off x="4419720" y="4648320"/>
            <a:ext cx="283356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Operator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can be “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igg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Repressor = The “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ig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6" descr="http://rds.yahoo.com/_ylt=A9iby4SCThRGhb0AkRujzbkF;_ylu=X3oDMTA4NDgyNWN0BHNlYwNwcm9m/SIG=130obfdc7/EXP=1175822338/**http%3A//xray.bmc.uu.se/Courses/Bke2/Exercises/Exercise_answers/lac_operon.gif"/>
          <p:cNvPicPr/>
          <p:nvPr/>
        </p:nvPicPr>
        <p:blipFill>
          <a:blip r:embed="rId1"/>
          <a:srcRect l="0" t="0" r="17024" b="86514"/>
          <a:stretch/>
        </p:blipFill>
        <p:spPr>
          <a:xfrm>
            <a:off x="457200" y="3962520"/>
            <a:ext cx="8305920" cy="25923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1066680" y="4724280"/>
            <a:ext cx="7162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752480" y="5943600"/>
            <a:ext cx="281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533520" y="5257800"/>
            <a:ext cx="15238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3048120" y="5029200"/>
            <a:ext cx="914400" cy="129528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act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vail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“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ccup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he repress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pp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4" descr="http://rds.yahoo.com/_ylt=A9iby4SCThRGhb0AkRujzbkF;_ylu=X3oDMTA4NDgyNWN0BHNlYwNwcm9m/SIG=130obfdc7/EXP=1175822338/**http%3A//xray.bmc.uu.se/Courses/Bke2/Exercises/Exercise_answers/lac_operon.gif"/>
          <p:cNvPicPr/>
          <p:nvPr/>
        </p:nvPicPr>
        <p:blipFill>
          <a:blip r:embed="rId1"/>
          <a:srcRect l="18151" t="20199" r="23350" b="53117"/>
          <a:stretch/>
        </p:blipFill>
        <p:spPr>
          <a:xfrm>
            <a:off x="3276720" y="1905120"/>
            <a:ext cx="5638680" cy="3886200"/>
          </a:xfrm>
          <a:prstGeom prst="rect">
            <a:avLst/>
          </a:prstGeom>
          <a:ln w="0">
            <a:noFill/>
          </a:ln>
        </p:spPr>
      </p:pic>
      <p:sp>
        <p:nvSpPr>
          <p:cNvPr id="407" name="Oval 9"/>
          <p:cNvSpPr/>
          <p:nvPr/>
        </p:nvSpPr>
        <p:spPr>
          <a:xfrm>
            <a:off x="3657600" y="4495680"/>
            <a:ext cx="1600200" cy="1143000"/>
          </a:xfrm>
          <a:prstGeom prst="ellipse">
            <a:avLst/>
          </a:prstGeom>
          <a:solidFill>
            <a:srgbClr val="33cc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4952880" y="2743200"/>
            <a:ext cx="762120" cy="6858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lactose i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ot avail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repressor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oesn’t m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a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pp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4" descr="http://rds.yahoo.com/_ylt=A9iby4SCThRGhb0AkRujzbkF;_ylu=X3oDMTA4NDgyNWN0BHNlYwNwcm9m/SIG=130obfdc7/EXP=1175822338/**http%3A//xray.bmc.uu.se/Courses/Bke2/Exercises/Exercise_answers/lac_operon.gif"/>
          <p:cNvPicPr/>
          <p:nvPr/>
        </p:nvPicPr>
        <p:blipFill>
          <a:blip r:embed="rId1"/>
          <a:srcRect l="18151" t="45553" r="23350" b="27767"/>
          <a:stretch/>
        </p:blipFill>
        <p:spPr>
          <a:xfrm>
            <a:off x="3352680" y="1981080"/>
            <a:ext cx="5791320" cy="39625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8"/>
          <p:cNvSpPr/>
          <p:nvPr/>
        </p:nvSpPr>
        <p:spPr>
          <a:xfrm>
            <a:off x="3429000" y="4572000"/>
            <a:ext cx="2743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9"/>
          <p:cNvSpPr/>
          <p:nvPr/>
        </p:nvSpPr>
        <p:spPr>
          <a:xfrm>
            <a:off x="4572000" y="4114800"/>
            <a:ext cx="685800" cy="9144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10"/>
          <p:cNvSpPr/>
          <p:nvPr/>
        </p:nvSpPr>
        <p:spPr>
          <a:xfrm>
            <a:off x="3657600" y="3962520"/>
            <a:ext cx="914400" cy="1066680"/>
          </a:xfrm>
          <a:prstGeom prst="ellipse">
            <a:avLst/>
          </a:prstGeom>
          <a:solidFill>
            <a:srgbClr val="33cc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ukary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n’t have ope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s controlled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individ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mpl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 reg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x = Located just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bef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e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Help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NA polymer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nd it’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a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4"/>
          <p:cNvSpPr/>
          <p:nvPr/>
        </p:nvSpPr>
        <p:spPr>
          <a:xfrm>
            <a:off x="685800" y="4572000"/>
            <a:ext cx="792468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5"/>
          <p:cNvSpPr/>
          <p:nvPr/>
        </p:nvSpPr>
        <p:spPr>
          <a:xfrm>
            <a:off x="2819520" y="4572000"/>
            <a:ext cx="457200" cy="68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85800"/>
              <a:gd name="textAreaBottom" fmla="*/ 663480 h 685800"/>
            </a:gdLst>
            <a:ahLst/>
            <a:rect l="textAreaLeft" t="textAreaTop" r="textAreaRight" b="textAreaBottom"/>
            <a:pathLst>
              <a:path w="21600" h="32392">
                <a:moveTo>
                  <a:pt x="3600" y="0"/>
                </a:moveTo>
                <a:arcTo wR="3600" hR="3600" stAng="16200000" swAng="-5400000"/>
                <a:lnTo>
                  <a:pt x="0" y="28792"/>
                </a:lnTo>
                <a:arcTo wR="3600" hR="3600" stAng="10800000" swAng="-5400000"/>
                <a:lnTo>
                  <a:pt x="18000" y="3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3809880" y="4572000"/>
            <a:ext cx="106704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7"/>
          <p:cNvSpPr/>
          <p:nvPr/>
        </p:nvSpPr>
        <p:spPr>
          <a:xfrm>
            <a:off x="5257800" y="45720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6705720" y="45720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600200" y="6019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TA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029200" y="3505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5105520" y="60958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2"/>
          <p:cNvSpPr/>
          <p:nvPr/>
        </p:nvSpPr>
        <p:spPr>
          <a:xfrm flipH="1" flipV="1">
            <a:off x="4266720" y="4876920"/>
            <a:ext cx="114300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3"/>
          <p:cNvSpPr/>
          <p:nvPr/>
        </p:nvSpPr>
        <p:spPr>
          <a:xfrm flipV="1">
            <a:off x="5638680" y="4800600"/>
            <a:ext cx="152640" cy="1447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4"/>
          <p:cNvSpPr/>
          <p:nvPr/>
        </p:nvSpPr>
        <p:spPr>
          <a:xfrm flipV="1">
            <a:off x="5867280" y="4952520"/>
            <a:ext cx="1295640" cy="121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5"/>
          <p:cNvSpPr/>
          <p:nvPr/>
        </p:nvSpPr>
        <p:spPr>
          <a:xfrm flipH="1">
            <a:off x="5028840" y="3962520"/>
            <a:ext cx="30492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6"/>
          <p:cNvSpPr/>
          <p:nvPr/>
        </p:nvSpPr>
        <p:spPr>
          <a:xfrm>
            <a:off x="5791320" y="3962520"/>
            <a:ext cx="76176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7"/>
          <p:cNvSpPr/>
          <p:nvPr/>
        </p:nvSpPr>
        <p:spPr>
          <a:xfrm flipV="1">
            <a:off x="2819520" y="4876920"/>
            <a:ext cx="228600" cy="121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romo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Where RNA polymerase will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first att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85800" y="4572000"/>
            <a:ext cx="792468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5"/>
          <p:cNvSpPr/>
          <p:nvPr/>
        </p:nvSpPr>
        <p:spPr>
          <a:xfrm>
            <a:off x="3581280" y="4572000"/>
            <a:ext cx="457200" cy="68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85800"/>
              <a:gd name="textAreaBottom" fmla="*/ 663480 h 685800"/>
            </a:gdLst>
            <a:ahLst/>
            <a:rect l="textAreaLeft" t="textAreaTop" r="textAreaRight" b="textAreaBottom"/>
            <a:pathLst>
              <a:path w="21600" h="32392">
                <a:moveTo>
                  <a:pt x="3600" y="0"/>
                </a:moveTo>
                <a:arcTo wR="3600" hR="3600" stAng="16200000" swAng="-5400000"/>
                <a:lnTo>
                  <a:pt x="0" y="28792"/>
                </a:lnTo>
                <a:arcTo wR="3600" hR="3600" stAng="10800000" swAng="-5400000"/>
                <a:lnTo>
                  <a:pt x="18000" y="3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4419720" y="45720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5867280" y="4572000"/>
            <a:ext cx="106704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7315200" y="45720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2743200" y="6019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TA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5562720" y="3505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5867280" y="6095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2"/>
          <p:cNvSpPr/>
          <p:nvPr/>
        </p:nvSpPr>
        <p:spPr>
          <a:xfrm flipH="1" flipV="1">
            <a:off x="4800240" y="4876920"/>
            <a:ext cx="114300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3"/>
          <p:cNvSpPr/>
          <p:nvPr/>
        </p:nvSpPr>
        <p:spPr>
          <a:xfrm flipV="1">
            <a:off x="6248520" y="4800600"/>
            <a:ext cx="152280" cy="1447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4"/>
          <p:cNvSpPr/>
          <p:nvPr/>
        </p:nvSpPr>
        <p:spPr>
          <a:xfrm flipV="1">
            <a:off x="6781680" y="4876920"/>
            <a:ext cx="1295640" cy="121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5"/>
          <p:cNvSpPr/>
          <p:nvPr/>
        </p:nvSpPr>
        <p:spPr>
          <a:xfrm flipH="1">
            <a:off x="5638320" y="3962520"/>
            <a:ext cx="30492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6"/>
          <p:cNvSpPr/>
          <p:nvPr/>
        </p:nvSpPr>
        <p:spPr>
          <a:xfrm>
            <a:off x="6400800" y="3962520"/>
            <a:ext cx="76212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7"/>
          <p:cNvSpPr/>
          <p:nvPr/>
        </p:nvSpPr>
        <p:spPr>
          <a:xfrm flipV="1">
            <a:off x="3505320" y="4876920"/>
            <a:ext cx="228600" cy="121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8"/>
          <p:cNvSpPr/>
          <p:nvPr/>
        </p:nvSpPr>
        <p:spPr>
          <a:xfrm>
            <a:off x="2133720" y="457200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19"/>
          <p:cNvSpPr/>
          <p:nvPr/>
        </p:nvSpPr>
        <p:spPr>
          <a:xfrm>
            <a:off x="2514600" y="457200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20"/>
          <p:cNvSpPr/>
          <p:nvPr/>
        </p:nvSpPr>
        <p:spPr>
          <a:xfrm>
            <a:off x="2895480" y="457200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1828800" y="35053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22"/>
          <p:cNvSpPr/>
          <p:nvPr/>
        </p:nvSpPr>
        <p:spPr>
          <a:xfrm>
            <a:off x="2590920" y="3962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nhanc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ign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eeded, attract RNA polymer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4"/>
          <p:cNvSpPr/>
          <p:nvPr/>
        </p:nvSpPr>
        <p:spPr>
          <a:xfrm>
            <a:off x="228600" y="4572000"/>
            <a:ext cx="838188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3581280" y="4572000"/>
            <a:ext cx="457200" cy="68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85800"/>
              <a:gd name="textAreaBottom" fmla="*/ 663480 h 685800"/>
            </a:gdLst>
            <a:ahLst/>
            <a:rect l="textAreaLeft" t="textAreaTop" r="textAreaRight" b="textAreaBottom"/>
            <a:pathLst>
              <a:path w="21600" h="32392">
                <a:moveTo>
                  <a:pt x="3600" y="0"/>
                </a:moveTo>
                <a:arcTo wR="3600" hR="3600" stAng="16200000" swAng="-5400000"/>
                <a:lnTo>
                  <a:pt x="0" y="28792"/>
                </a:lnTo>
                <a:arcTo wR="3600" hR="3600" stAng="10800000" swAng="-5400000"/>
                <a:lnTo>
                  <a:pt x="18000" y="3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4419720" y="45720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5867280" y="4572000"/>
            <a:ext cx="106704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7315200" y="45720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743200" y="6019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TA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562720" y="3505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5867280" y="6095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2"/>
          <p:cNvSpPr/>
          <p:nvPr/>
        </p:nvSpPr>
        <p:spPr>
          <a:xfrm flipH="1" flipV="1">
            <a:off x="4800240" y="4876920"/>
            <a:ext cx="114300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"/>
          <p:cNvSpPr/>
          <p:nvPr/>
        </p:nvSpPr>
        <p:spPr>
          <a:xfrm flipV="1">
            <a:off x="6248520" y="4800600"/>
            <a:ext cx="152280" cy="1447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 flipV="1">
            <a:off x="6781680" y="4876920"/>
            <a:ext cx="1295640" cy="121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 flipH="1">
            <a:off x="5638320" y="3962520"/>
            <a:ext cx="30492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6"/>
          <p:cNvSpPr/>
          <p:nvPr/>
        </p:nvSpPr>
        <p:spPr>
          <a:xfrm>
            <a:off x="6400800" y="3962520"/>
            <a:ext cx="76212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7"/>
          <p:cNvSpPr/>
          <p:nvPr/>
        </p:nvSpPr>
        <p:spPr>
          <a:xfrm flipV="1">
            <a:off x="3505320" y="4876920"/>
            <a:ext cx="228600" cy="121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18"/>
          <p:cNvSpPr/>
          <p:nvPr/>
        </p:nvSpPr>
        <p:spPr>
          <a:xfrm>
            <a:off x="2133720" y="457200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19"/>
          <p:cNvSpPr/>
          <p:nvPr/>
        </p:nvSpPr>
        <p:spPr>
          <a:xfrm>
            <a:off x="2514600" y="457200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2895480" y="4572000"/>
            <a:ext cx="228600" cy="68580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685800"/>
              <a:gd name="textAreaBottom" fmla="*/ 674640 h 685800"/>
            </a:gdLst>
            <a:ahLst/>
            <a:rect l="textAreaLeft" t="textAreaTop" r="textAreaRight" b="textAreaBottom"/>
            <a:pathLst>
              <a:path w="21600" h="64732">
                <a:moveTo>
                  <a:pt x="3600" y="0"/>
                </a:moveTo>
                <a:arcTo wR="3600" hR="3600" stAng="16200000" swAng="-5400000"/>
                <a:lnTo>
                  <a:pt x="0" y="61132"/>
                </a:lnTo>
                <a:arcTo wR="3600" hR="3600" stAng="10800000" swAng="-5400000"/>
                <a:lnTo>
                  <a:pt x="18000" y="64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1828800" y="35053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2"/>
          <p:cNvSpPr/>
          <p:nvPr/>
        </p:nvSpPr>
        <p:spPr>
          <a:xfrm>
            <a:off x="2590920" y="3962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23"/>
          <p:cNvSpPr/>
          <p:nvPr/>
        </p:nvSpPr>
        <p:spPr>
          <a:xfrm>
            <a:off x="609480" y="4572000"/>
            <a:ext cx="1067040" cy="6858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25"/>
          <p:cNvSpPr/>
          <p:nvPr/>
        </p:nvSpPr>
        <p:spPr>
          <a:xfrm flipV="1">
            <a:off x="1143000" y="4876920"/>
            <a:ext cx="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228600" y="5943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 Gene 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eukary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gulation s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mpl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Multicellular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pecia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Most cells hav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full gen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Making HCl in the brai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27" descr="http://rds.yahoo.com/_ylt=A9gnMiiZHhVGIOkAahqjzbkF;_ylu=X3oDMTA4NDgyNWN0BHNlYwNwcm9m/SIG=12b7kvtf7/EXP=1175875609/**http%3A//www.frontrange.edu/images/pages/9336/Stomach.jpg"/>
          <p:cNvPicPr/>
          <p:nvPr/>
        </p:nvPicPr>
        <p:blipFill>
          <a:blip r:embed="rId1"/>
          <a:srcRect l="6879" t="1963" r="18484" b="21181"/>
          <a:stretch/>
        </p:blipFill>
        <p:spPr>
          <a:xfrm>
            <a:off x="6858000" y="27432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9" descr="http://rds.yahoo.com/_ylt=A9gnMiUWIBVGWdAAOR2jzbkF;_ylu=X3oDMTA4NDgyNWN0BHNlYwNwcm9m/SIG=128av4mjj/EXP=1175875990/**http%3A//www.wendingourway.com/images/stamps/brain.jpg"/>
          <p:cNvPicPr/>
          <p:nvPr/>
        </p:nvPicPr>
        <p:blipFill>
          <a:blip r:embed="rId2"/>
          <a:stretch/>
        </p:blipFill>
        <p:spPr>
          <a:xfrm>
            <a:off x="6629400" y="4800600"/>
            <a:ext cx="19810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. Development &amp;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sm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evel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ells becom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erform proper functions =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fferent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7" descr="http://rds.yahoo.com/_ylt=A9gnMiFCIRVGr1cABHejzbkF;_ylu=X3oDMTA4NDgyNWN0BHNlYwNwcm9m/SIG=12mk2qo1i/EXP=1175876290/**http%3A//www.bioteach.ubc.ca/Bioengineering/StemCells/stemcells2.GIF"/>
          <p:cNvPicPr/>
          <p:nvPr/>
        </p:nvPicPr>
        <p:blipFill>
          <a:blip r:embed="rId1"/>
          <a:srcRect l="35842" t="67237" r="0" b="21310"/>
          <a:stretch/>
        </p:blipFill>
        <p:spPr>
          <a:xfrm>
            <a:off x="4495680" y="2971800"/>
            <a:ext cx="4419720" cy="14479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http://rds.yahoo.com/_ylt=A9gnMiFCIRVGr1cABHejzbkF;_ylu=X3oDMTA4NDgyNWN0BHNlYwNwcm9m/SIG=12mk2qo1i/EXP=1175876290/**http%3A//www.bioteach.ubc.ca/Bioengineering/StemCells/stemcells2.GIF"/>
          <p:cNvPicPr/>
          <p:nvPr/>
        </p:nvPicPr>
        <p:blipFill>
          <a:blip r:embed="rId2"/>
          <a:srcRect l="34633" t="0" r="46169" b="90852"/>
          <a:stretch/>
        </p:blipFill>
        <p:spPr>
          <a:xfrm>
            <a:off x="4343400" y="1295280"/>
            <a:ext cx="1828800" cy="1067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9" descr="http://rds.yahoo.com/_ylt=A9gnMiFCIRVGr1cABHejzbkF;_ylu=X3oDMTA4NDgyNWN0BHNlYwNwcm9m/SIG=12mk2qo1i/EXP=1175876290/**http%3A//www.bioteach.ubc.ca/Bioengineering/StemCells/stemcells2.GIF"/>
          <p:cNvPicPr/>
          <p:nvPr/>
        </p:nvPicPr>
        <p:blipFill>
          <a:blip r:embed="rId3"/>
          <a:srcRect l="33279" t="83321" r="0" b="0"/>
          <a:stretch/>
        </p:blipFill>
        <p:spPr>
          <a:xfrm>
            <a:off x="4191120" y="4876920"/>
            <a:ext cx="4495680" cy="1692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0" descr="http://rds.yahoo.com/_ylt=A9gnMiFCIRVGr1cABHejzbkF;_ylu=X3oDMTA4NDgyNWN0BHNlYwNwcm9m/SIG=12mk2qo1i/EXP=1175876290/**http%3A//www.bioteach.ubc.ca/Bioengineering/StemCells/stemcells2.GIF"/>
          <p:cNvPicPr/>
          <p:nvPr/>
        </p:nvPicPr>
        <p:blipFill>
          <a:blip r:embed="rId4"/>
          <a:srcRect l="37856" t="35712" r="46623" b="53715"/>
          <a:stretch/>
        </p:blipFill>
        <p:spPr>
          <a:xfrm>
            <a:off x="6934320" y="129528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488" name="Line 11"/>
          <p:cNvSpPr/>
          <p:nvPr/>
        </p:nvSpPr>
        <p:spPr>
          <a:xfrm>
            <a:off x="6095880" y="182880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2"/>
          <p:cNvSpPr/>
          <p:nvPr/>
        </p:nvSpPr>
        <p:spPr>
          <a:xfrm flipH="1">
            <a:off x="6629040" y="2362320"/>
            <a:ext cx="609480" cy="533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4"/>
          <p:cNvSpPr/>
          <p:nvPr/>
        </p:nvSpPr>
        <p:spPr>
          <a:xfrm>
            <a:off x="4876920" y="4876920"/>
            <a:ext cx="33526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5"/>
          <p:cNvSpPr/>
          <p:nvPr/>
        </p:nvSpPr>
        <p:spPr>
          <a:xfrm flipH="1">
            <a:off x="5105160" y="4038480"/>
            <a:ext cx="75960" cy="1067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5791320" y="388620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7"/>
          <p:cNvSpPr/>
          <p:nvPr/>
        </p:nvSpPr>
        <p:spPr>
          <a:xfrm flipH="1">
            <a:off x="6476760" y="4038480"/>
            <a:ext cx="152280" cy="1067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8"/>
          <p:cNvSpPr/>
          <p:nvPr/>
        </p:nvSpPr>
        <p:spPr>
          <a:xfrm flipH="1">
            <a:off x="7772040" y="3962520"/>
            <a:ext cx="152280" cy="1371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. Development &amp;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ox g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ell cells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fferenti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they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g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16" descr="http://rds.yahoo.com/_ylt=A9gnMiWtJBVG9MwATEWjzbkF;_ylu=X3oDMTA4NDgyNWN0BHNlYwNwcm9m/SIG=120sq5gjh/EXP=1175877165/**http%3A//pharyngula.org/images/mouse_hom-c.jpg"/>
          <p:cNvPicPr/>
          <p:nvPr/>
        </p:nvPicPr>
        <p:blipFill>
          <a:blip r:embed="rId1"/>
          <a:stretch/>
        </p:blipFill>
        <p:spPr>
          <a:xfrm>
            <a:off x="2438280" y="2895480"/>
            <a:ext cx="6324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The History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acLeod &amp; McCarty,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9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pe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iffith’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Mixed with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nzy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estro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rything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rans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ill happen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. Development &amp;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simila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for eye development in m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d on the leg of a f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 had an eye on it’s leg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6" descr="http://rds.yahoo.com/_ylt=A9gnMiYlJhVGV4EA9RqjzbkF;_ylu=X3oDMTA4NDgyNWN0BHNlYwNwcm9m/SIG=12asacvul/EXP=1175877541/**http%3A//www.its.caltech.edu/~vivek/Icons/drosophila.jpg"/>
          <p:cNvPicPr/>
          <p:nvPr/>
        </p:nvPicPr>
        <p:blipFill>
          <a:blip r:embed="rId1"/>
          <a:srcRect l="16000" t="29415" r="0" b="0"/>
          <a:stretch/>
        </p:blipFill>
        <p:spPr>
          <a:xfrm>
            <a:off x="5410080" y="3809880"/>
            <a:ext cx="3314880" cy="27133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http://rds.yahoo.com/_ylt=A9gnMiYlJhVGV4EA9RqjzbkF;_ylu=X3oDMTA4NDgyNWN0BHNlYwNwcm9m/SIG=12asacvul/EXP=1175877541/**http%3A//www.its.caltech.edu/~vivek/Icons/drosophila.jpg"/>
          <p:cNvPicPr/>
          <p:nvPr/>
        </p:nvPicPr>
        <p:blipFill>
          <a:blip r:embed="rId2"/>
          <a:srcRect l="26137" t="65361" r="62139" b="21578"/>
          <a:stretch/>
        </p:blipFill>
        <p:spPr>
          <a:xfrm>
            <a:off x="7086600" y="5181480"/>
            <a:ext cx="5335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6:33:45Z</dcterms:created>
  <dc:creator>Leanne</dc:creator>
  <dc:description/>
  <dc:language>en-US</dc:language>
  <cp:lastModifiedBy>biochemchic21</cp:lastModifiedBy>
  <dcterms:modified xsi:type="dcterms:W3CDTF">2010-12-17T01:04:42Z</dcterms:modified>
  <cp:revision>35</cp:revision>
  <dc:subject/>
  <dc:title>Molecular Genetics</dc:title>
</cp:coreProperties>
</file>